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6B2E-CA9E-4190-911A-591D25BEB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26B4-BFC2-46BF-9597-E2EA7CA46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1300-CFEE-4D28-951D-A7F0821DE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9BF6-C452-4134-B161-6681D0340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E23A4-0E22-49A8-A598-745536867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7E31F-AC48-4F66-AD58-FC9C1EA20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09216-D0A5-460F-BD60-C773C5F99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DE2B7-B9D0-4F37-B52E-397C0AD3B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85E1B-9F6A-43BF-A9B8-9BDB720F4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855C0-4F77-4428-B62B-D063D6991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8A77C-D6D4-4A49-9C9D-A0209557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C6C8-12A3-437C-9253-2F68335AD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64223-87EC-4C9C-9DD2-CB84C3A8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419E7-B1E2-4A90-B5B7-E576F464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333AD-FFE0-4E2F-B3E4-DEB9E6102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70780-D37F-4325-9EFE-49927CFBE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F7DEF-018A-47DF-964C-8FE987AA2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9C7F-780B-4C12-97ED-DF38B50A5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6ABC-B349-422D-A0C5-0DDEF7AA3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B18F-1C7C-41BD-BDB5-D37981193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7527-3B18-49A7-ABA7-824FADCFD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1A0D-2C1C-40AC-8A46-638FD774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5AB2-DFC1-4F81-BA6A-5EB9D3AE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0677-09E8-4DC1-AF8F-B995C6E7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572FE-F8A9-4162-85A6-968260637BB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9FC32-4027-4574-8A7F-BC831552BEA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Maiandra GD"/>
              </a:rPr>
              <a:t>Writing Sandwic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4395960" cy="42228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5076720" y="2133720"/>
            <a:ext cx="180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932360" y="3645000"/>
            <a:ext cx="194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427640" y="4869000"/>
            <a:ext cx="23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77080" y="1700280"/>
            <a:ext cx="1942920" cy="785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rst Paragrap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877080" y="4581360"/>
            <a:ext cx="1942920" cy="785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st Paragrap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948360" y="2997360"/>
            <a:ext cx="1943280" cy="1334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ddle Paragraph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New topic = New paragraph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2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12:22:41Z</dcterms:created>
  <dc:creator>menb</dc:creator>
  <dc:description/>
  <dc:language>en-US</dc:language>
  <cp:lastModifiedBy>menb</cp:lastModifiedBy>
  <dcterms:modified xsi:type="dcterms:W3CDTF">2008-03-29T21:02:24Z</dcterms:modified>
  <cp:revision>4</cp:revision>
  <dc:subject/>
  <dc:title>Writing Sandwich</dc:title>
</cp:coreProperties>
</file>